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F93F-763B-4007-B6C6-804CCD3DC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F1B6-9BA8-4E7C-8ED7-FC1D9DE5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56CA-5357-439F-A3D9-F69BDF7DB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3751-7A4A-4E4E-811F-4A22A43C8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EE0E-047B-4166-9FC0-6ACDDC51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9E21-16E5-46E1-86A9-86EB8041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05DC-D2EF-4F5E-B8E4-7308BE63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ABE2-5E12-4D78-8EF5-DFAB25F0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7963-931C-4379-9470-2A634725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5FA6-5394-401A-A9BD-DE2A064C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7241-A005-426E-9CD9-59F999A7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4478-7AAE-4F47-A15B-46F0DB5E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A3B3-BCED-455C-BEC3-576BA48EDB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4765680" y="1925640"/>
            <a:ext cx="4062240" cy="231300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ый треугольник 4"/>
          <p:cNvSpPr/>
          <p:nvPr/>
        </p:nvSpPr>
        <p:spPr>
          <a:xfrm rot="10800000">
            <a:off x="4211280" y="2479320"/>
            <a:ext cx="554040" cy="554040"/>
          </a:xfrm>
          <a:prstGeom prst="rtTriangle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4761000" y="4309920"/>
            <a:ext cx="4062240" cy="554040"/>
          </a:xfrm>
          <a:prstGeom prst="rect">
            <a:avLst/>
          </a:prstGeom>
          <a:solidFill>
            <a:srgbClr val="ffe1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Текст 14"/>
          <p:cNvSpPr/>
          <p:nvPr/>
        </p:nvSpPr>
        <p:spPr>
          <a:xfrm>
            <a:off x="4932360" y="2119320"/>
            <a:ext cx="273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100"/>
                </a:solidFill>
                <a:latin typeface="Verdana"/>
              </a:rPr>
              <a:t>PRI-</a:t>
            </a:r>
            <a:r>
              <a:rPr b="1" lang="ru-RU" sz="2000" spc="-1" strike="noStrike">
                <a:solidFill>
                  <a:srgbClr val="ffe100"/>
                </a:solidFill>
                <a:latin typeface="Verdana"/>
              </a:rPr>
              <a:t>по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4925880" y="2610000"/>
            <a:ext cx="2735280" cy="0"/>
          </a:xfrm>
          <a:prstGeom prst="line">
            <a:avLst/>
          </a:prstGeom>
          <a:ln w="19080">
            <a:solidFill>
              <a:srgbClr val="ffe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Текст 14"/>
          <p:cNvSpPr/>
          <p:nvPr/>
        </p:nvSpPr>
        <p:spPr>
          <a:xfrm>
            <a:off x="5199120" y="4421160"/>
            <a:ext cx="134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7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Текст 14"/>
          <p:cNvSpPr/>
          <p:nvPr/>
        </p:nvSpPr>
        <p:spPr>
          <a:xfrm>
            <a:off x="4924440" y="2697120"/>
            <a:ext cx="273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e100"/>
                </a:solidFill>
                <a:latin typeface="Calibri"/>
              </a:rPr>
              <a:t>Прямое подключение Вашей АТС к мобильной сети </a:t>
            </a:r>
            <a:r>
              <a:rPr b="0" lang="en-US" sz="1600" spc="-1" strike="noStrike">
                <a:solidFill>
                  <a:srgbClr val="ffe100"/>
                </a:solidFill>
                <a:latin typeface="Calibri"/>
              </a:rPr>
              <a:t>Bee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Текст 14"/>
          <p:cNvSpPr/>
          <p:nvPr/>
        </p:nvSpPr>
        <p:spPr>
          <a:xfrm>
            <a:off x="7164360" y="4421160"/>
            <a:ext cx="1589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2b.beeline.k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Users\User\Desktop\tel.png"/>
          <p:cNvPicPr/>
          <p:nvPr/>
        </p:nvPicPr>
        <p:blipFill>
          <a:blip r:embed="rId2"/>
          <a:stretch/>
        </p:blipFill>
        <p:spPr>
          <a:xfrm>
            <a:off x="4896000" y="4443480"/>
            <a:ext cx="287280" cy="279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C:\Users\AbKOmarov\Desktop\ce23932951c0d7a94b42d6bd2f339152.jpg"/>
          <p:cNvPicPr/>
          <p:nvPr/>
        </p:nvPicPr>
        <p:blipFill>
          <a:blip r:embed="rId3"/>
          <a:stretch/>
        </p:blipFill>
        <p:spPr>
          <a:xfrm>
            <a:off x="42840" y="1504800"/>
            <a:ext cx="4084560" cy="57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3"/>
          <p:cNvSpPr/>
          <p:nvPr/>
        </p:nvSpPr>
        <p:spPr>
          <a:xfrm>
            <a:off x="3294000" y="2109960"/>
            <a:ext cx="3511440" cy="923760"/>
          </a:xfrm>
          <a:prstGeom prst="rect">
            <a:avLst/>
          </a:prstGeom>
          <a:solidFill>
            <a:srgbClr val="ffe1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Verdana"/>
              </a:rPr>
              <a:t>Спасиб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2338560" y="2109960"/>
            <a:ext cx="955440" cy="92376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3"/>
          <p:cNvSpPr/>
          <p:nvPr/>
        </p:nvSpPr>
        <p:spPr>
          <a:xfrm>
            <a:off x="0" y="905040"/>
            <a:ext cx="3425760" cy="1234800"/>
          </a:xfrm>
          <a:prstGeom prst="rect">
            <a:avLst/>
          </a:prstGeom>
          <a:solidFill>
            <a:srgbClr val="ffe1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I-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3419640" y="915840"/>
            <a:ext cx="57243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I-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оток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– это решение для офисной телефонии, позволяющее совершать звонки на мобильные направления, по сниженной цене, за счет прямого подключения к операто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ационарный телефон в офисе клиента получает номер абонента Билайн. Например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+7 777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YY XXXX 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де ХХХХ может соответствовать внутренним номерам сотрудни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аким образом звонки из офиса на мобильные направления происходят с мобильного номера, что позволяет снизить расходы на звон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дин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поток может обеспечить -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одновременных разговоров. Кол-во номеров не ограниче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дключение к сети производится один раз. Дальнейшее увеличение номеров происходит программным путем, без дополнительных монтажных раб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5"/>
          <p:cNvSpPr/>
          <p:nvPr/>
        </p:nvSpPr>
        <p:spPr>
          <a:xfrm>
            <a:off x="617400" y="506520"/>
            <a:ext cx="4891320" cy="596880"/>
          </a:xfrm>
          <a:prstGeom prst="rect">
            <a:avLst/>
          </a:prstGeom>
          <a:solidFill>
            <a:srgbClr val="ffe1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I –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по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бласть приме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7"/>
          <p:cNvSpPr/>
          <p:nvPr/>
        </p:nvSpPr>
        <p:spPr>
          <a:xfrm>
            <a:off x="0" y="506520"/>
            <a:ext cx="617400" cy="59688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517680" y="3790800"/>
            <a:ext cx="622080" cy="118296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4"/>
          <p:cNvSpPr/>
          <p:nvPr/>
        </p:nvSpPr>
        <p:spPr>
          <a:xfrm>
            <a:off x="1258920" y="1419120"/>
            <a:ext cx="72723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all-</a:t>
            </a: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центры, центры телефонного обслужи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Бан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Коллекторские организа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Службы обслуживания насел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58920" y="2540160"/>
            <a:ext cx="720072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Крупный бизнес и средний/малый бизне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Нефтегазовый секто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Промышленно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MCG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(товары повседневного спроса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http://financeblog.co.ua/wp-content/uploads/2011/10/%D0%B1%D0%B0%D0%BD%D0%BA-%D1%84%D1%80%D0%B3.jpg"/>
          <p:cNvPicPr/>
          <p:nvPr/>
        </p:nvPicPr>
        <p:blipFill>
          <a:blip r:embed="rId2"/>
          <a:stretch/>
        </p:blipFill>
        <p:spPr>
          <a:xfrm>
            <a:off x="487440" y="1523880"/>
            <a:ext cx="652320" cy="1170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www.garagebiz.ru/images/uploads/16249911-man-looking-at-business-plan.jpg"/>
          <p:cNvPicPr/>
          <p:nvPr/>
        </p:nvPicPr>
        <p:blipFill>
          <a:blip r:embed="rId3"/>
          <a:stretch/>
        </p:blipFill>
        <p:spPr>
          <a:xfrm>
            <a:off x="487440" y="2676600"/>
            <a:ext cx="652320" cy="119376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27"/>
          <p:cNvSpPr/>
          <p:nvPr/>
        </p:nvSpPr>
        <p:spPr>
          <a:xfrm>
            <a:off x="1258920" y="3724200"/>
            <a:ext cx="720072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Национальные компании и государственные учрежд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Сектор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Образова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Стратегические объек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3"/>
          <p:cNvSpPr/>
          <p:nvPr/>
        </p:nvSpPr>
        <p:spPr>
          <a:xfrm>
            <a:off x="617400" y="506520"/>
            <a:ext cx="4891320" cy="596880"/>
          </a:xfrm>
          <a:prstGeom prst="rect">
            <a:avLst/>
          </a:prstGeom>
          <a:solidFill>
            <a:srgbClr val="ffe1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I –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по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хема реал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"/>
          <p:cNvSpPr/>
          <p:nvPr/>
        </p:nvSpPr>
        <p:spPr>
          <a:xfrm>
            <a:off x="0" y="506520"/>
            <a:ext cx="617400" cy="59688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C:\Users\AbKOmarov\Desktop\Рисунок1.png"/>
          <p:cNvPicPr/>
          <p:nvPr/>
        </p:nvPicPr>
        <p:blipFill>
          <a:blip r:embed="rId1"/>
          <a:stretch/>
        </p:blipFill>
        <p:spPr>
          <a:xfrm>
            <a:off x="179280" y="1563840"/>
            <a:ext cx="8783640" cy="33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3"/>
          <p:cNvSpPr/>
          <p:nvPr/>
        </p:nvSpPr>
        <p:spPr>
          <a:xfrm>
            <a:off x="617400" y="506520"/>
            <a:ext cx="4891320" cy="596880"/>
          </a:xfrm>
          <a:prstGeom prst="rect">
            <a:avLst/>
          </a:prstGeom>
          <a:solidFill>
            <a:srgbClr val="ffe1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I –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по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Тариф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4"/>
          <p:cNvSpPr/>
          <p:nvPr/>
        </p:nvSpPr>
        <p:spPr>
          <a:xfrm>
            <a:off x="0" y="506520"/>
            <a:ext cx="617400" cy="59688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79280" y="1419120"/>
          <a:ext cx="7488360" cy="914400"/>
        </p:xfrm>
        <a:graphic>
          <a:graphicData uri="http://schemas.openxmlformats.org/drawingml/2006/table">
            <a:tbl>
              <a:tblPr/>
              <a:tblGrid>
                <a:gridCol w="2495520"/>
                <a:gridCol w="2497320"/>
                <a:gridCol w="2495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аг округ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риф, включая НД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та за подклю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диновремен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 000 т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нентская плата з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жемеся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т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50920" y="2787480"/>
          <a:ext cx="7416720" cy="892440"/>
        </p:xfrm>
        <a:graphic>
          <a:graphicData uri="http://schemas.openxmlformats.org/drawingml/2006/table">
            <a:tbl>
              <a:tblPr/>
              <a:tblGrid>
                <a:gridCol w="2065320"/>
                <a:gridCol w="2376360"/>
                <a:gridCol w="2975040"/>
              </a:tblGrid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нентская пл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ено мину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имость минуты при превыш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2235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3"/>
          <p:cNvSpPr/>
          <p:nvPr/>
        </p:nvSpPr>
        <p:spPr>
          <a:xfrm>
            <a:off x="617400" y="506520"/>
            <a:ext cx="4891320" cy="596880"/>
          </a:xfrm>
          <a:prstGeom prst="rect">
            <a:avLst/>
          </a:prstGeom>
          <a:solidFill>
            <a:srgbClr val="ffe1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I –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по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еждународные тариф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4"/>
          <p:cNvSpPr/>
          <p:nvPr/>
        </p:nvSpPr>
        <p:spPr>
          <a:xfrm>
            <a:off x="0" y="506520"/>
            <a:ext cx="617400" cy="59688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50920" y="1276200"/>
          <a:ext cx="3887640" cy="3745080"/>
        </p:xfrm>
        <a:graphic>
          <a:graphicData uri="http://schemas.openxmlformats.org/drawingml/2006/table">
            <a:tbl>
              <a:tblPr/>
              <a:tblGrid>
                <a:gridCol w="2392200"/>
                <a:gridCol w="1495440"/>
              </a:tblGrid>
              <a:tr h="23364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правление выз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имость мину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1429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ыргызстан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5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м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та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Ш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з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5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джикистан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14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ркменистан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29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бекистан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сто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в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11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тв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29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раин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рма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анц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ьг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ербайджан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арусь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2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дов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2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вения, Болгар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нгрия, Финляндия, Иран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ец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раиль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ландия, Палестина, Словакия, Сербия и Черногория, Черногория, Хорватия, Югослав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а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284720" y="1276200"/>
          <a:ext cx="3887640" cy="3767400"/>
        </p:xfrm>
        <a:graphic>
          <a:graphicData uri="http://schemas.openxmlformats.org/drawingml/2006/table">
            <a:tbl>
              <a:tblPr/>
              <a:tblGrid>
                <a:gridCol w="2392200"/>
                <a:gridCol w="1495440"/>
              </a:tblGrid>
              <a:tr h="22140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правление выз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имость мину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135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алия и Ватика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дерланд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на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шская Республи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вейцар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вец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ея Южна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стр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бания, Аргентина, Аруба, Бермуды, Босния-Герцеговина, Бразилия, Гибралтар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нКон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ар, Кипр, Сеть Комбелга, Люксембург, Макао, Македония, Монако, Монголия, Филиппин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АЭ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киста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кобрит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ш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мы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удовская Арав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гапу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илан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йван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жно-Африканская Республи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вег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3"/>
          <p:cNvSpPr/>
          <p:nvPr/>
        </p:nvSpPr>
        <p:spPr>
          <a:xfrm>
            <a:off x="617400" y="506520"/>
            <a:ext cx="4891320" cy="596880"/>
          </a:xfrm>
          <a:prstGeom prst="rect">
            <a:avLst/>
          </a:prstGeom>
          <a:solidFill>
            <a:srgbClr val="ffe1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I –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по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еждународные тариф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0" y="506520"/>
            <a:ext cx="617400" cy="59688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50920" y="1203480"/>
          <a:ext cx="8569080" cy="3770280"/>
        </p:xfrm>
        <a:graphic>
          <a:graphicData uri="http://schemas.openxmlformats.org/drawingml/2006/table">
            <a:tbl>
              <a:tblPr/>
              <a:tblGrid>
                <a:gridCol w="5329080"/>
                <a:gridCol w="3240000"/>
              </a:tblGrid>
              <a:tr h="23328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правление выз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имость мину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142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онез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ея Северна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стралия (без внешних территорий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йз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6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жир, Ангола, Андорра, Антигуа и Барбуда,Афганистан, Багамские острова, Бангладеш, Барбадос, Бахрейн, Белиз, Бенин, Боливия, Ботсвана, Бруней, Буркина-Фасо, Бурунди, Бутан, Венесуэла, Габон, Гаити, Гайана, Гамбия, Гана, Гватемала, Гвинея, Гвинея-Бисау, Гондурас, Гренада, Джибути, Доминика, Доминиканская Республика, Египет, Замбия, Западная Сахара, Зимбабве, Иордания, Ирак, Исландия, Йемен, Кабо-Верде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мерун, Кения, Колумбия, Коморские острова, Конго (Браззавиль), Конго (Киншаса), Коста-Рика, Кот-Д’Ивуар, Куба, Кувейт, Лаос, Лесото, Либерия, Ливан, Ливия, Лихтенштейн, Маврикий, Мавритания, Мадагаскар, Малави, Мали, Мальдивская Республика, Мальта, Марокко, Мексика, Мозамбик, Мьянма, Намибия, Непал, Нигер, Нигерия, Никарагуа, Оман, Панама, Парагвай, Перу, Португалия, Руанда, Сальвадор, Сан-Марино, Сан-Томе и Принсипи, Свазиленд, Сейшельские острова, Сенегал, Сент-Винсент и Гренадины,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т-Китс и Невис, Сент-Люсия, Сирия, Сомали, Судан, Суринам, Сьерра-Леоне, Танзания, Того, Тринидад и Тобаго, Тунис, Уганда, Уругвай, Центрально-Африканская Республика, Чад, Чили, Шри-Ланка, Эквадор, Экваториальная Гвинея, Эритрея, Эфиопия, Ямайка</a:t>
                      </a:r>
                      <a:br>
                        <a:rPr sz="800"/>
                      </a:br>
                      <a:br>
                        <a:rPr sz="800"/>
                      </a:b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по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сь остальной ми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ьетнам, Камбоджа,  (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ba), (Norfolk Island), (Sao Tome and Principe), (Greenland), (Cook Islands), (Nauru), (Niue), (Tokelau), (Tuvalu), (Wallis and Futuna), (Vanuatu), (Solomon Islands), (Tonga), (Saint Helena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рц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онез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ея Северна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стралия (без внешних территорий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3"/>
          <p:cNvSpPr/>
          <p:nvPr/>
        </p:nvSpPr>
        <p:spPr>
          <a:xfrm>
            <a:off x="617400" y="506520"/>
            <a:ext cx="4891320" cy="596880"/>
          </a:xfrm>
          <a:prstGeom prst="rect">
            <a:avLst/>
          </a:prstGeom>
          <a:solidFill>
            <a:srgbClr val="ffe1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I –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по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еждународные тариф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"/>
          <p:cNvSpPr/>
          <p:nvPr/>
        </p:nvSpPr>
        <p:spPr>
          <a:xfrm>
            <a:off x="0" y="506520"/>
            <a:ext cx="617400" cy="59688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11280" y="1203480"/>
          <a:ext cx="7632720" cy="3771720"/>
        </p:xfrm>
        <a:graphic>
          <a:graphicData uri="http://schemas.openxmlformats.org/drawingml/2006/table">
            <a:tbl>
              <a:tblPr/>
              <a:tblGrid>
                <a:gridCol w="4697280"/>
                <a:gridCol w="2935440"/>
              </a:tblGrid>
              <a:tr h="22140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правление выз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имость мину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13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по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сь остальной ми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ьетнам, Камбоджа,  (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ba), (Norfolk Island), (Sao Tome and Principe), (Greenland), (Cook Islands), (Nauru), (Niue), (Tokelau), (Tuvalu), (Wallis and Futuna), (Vanuatu), (Solomon Islands), (Tonga), (Saint Helena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рц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онез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ея Северна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стралия (без внешних территорий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йз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8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жир, Ангола, Андорра, Антигуа и Барбуда,Афганистан, Багамские острова, Бангладеш, Барбадос, Бахрейн, Белиз, Бенин, Боливия, Ботсвана, Бруней, Буркина-Фасо, Бурунди, Бутан, Венесуэла, Габон, Гаити, Гайана, Гамбия, Гана, Гватемала, Гвинея, Гвинея-Бисау, Гондурас, Гренада, Джибути, Доминика, Доминиканская Республика, Египет, Замбия, Западная Сахара, Зимбабве, Иордания, Ирак, Исландия, Йемен, Кабо-Верде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мерун, Кения, Колумбия, Коморские острова, Конго (Браззавиль), Конго (Киншаса), Коста-Рика, Кот-Д’Ивуар, Куба, Кувейт, Лаос, Лесото, Либерия, Ливан, Ливия, Лихтенштейн, Маврикий, Мавритания, Мадагаскар, Малави, Мали, Мальдивская Республика, Мальта, Марокко, Мексика, Мозамбик, Мьянма, Намибия, Непал, Нигер, Нигерия, Никарагуа, Оман, Панама, Парагвай, Перу, Португалия, Руанда, Сальвадор, Сан-Марино, Сан-Томе и Принсипи, Свазиленд, Сейшельские острова, Сенегал, Сент-Винсент и Гренадины,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т-Китс и Невис, Сент-Люсия, Сирия, Сомали, Судан, Суринам, Сьерра-Леоне, Танзания, Того, Тринидад и Тобаго, Тунис, Уганда, Уругвай, Центрально-Африканская Республика, Чад, Чили, Шри-Ланка, Эквадор, Экваториальная Гвинея, Эритрея, Эфиопия, Ямайка</a:t>
                      </a:r>
                      <a:br>
                        <a:rPr sz="800"/>
                      </a:br>
                      <a:br>
                        <a:rPr sz="800"/>
                      </a:b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йз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3"/>
          <p:cNvSpPr/>
          <p:nvPr/>
        </p:nvSpPr>
        <p:spPr>
          <a:xfrm>
            <a:off x="617400" y="506520"/>
            <a:ext cx="4891320" cy="596880"/>
          </a:xfrm>
          <a:prstGeom prst="rect">
            <a:avLst/>
          </a:prstGeom>
          <a:solidFill>
            <a:srgbClr val="ffe1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I –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по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оцедура подключения услу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0" y="506520"/>
            <a:ext cx="617400" cy="59688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0" y="1419120"/>
            <a:ext cx="91440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лиентом отправляется оператору заявка на подключение услуг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ператор проверяет соответствие всем установленным требованиям. Подготавливает договор на услугу и технические условия для клиента (ТУ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е приведения в соответствие, имеющихся у Клиента технических и организационных возможностей к требованиям ТУ, Клиент письменно уведомляет оператора о готовнос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изводится присоединение сетей в тестовом режиме. При положительных результатах тестов подписывается акт и договор на услуг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изводится присоединение сетей в рабочем режиме. Подписывается акт  ввода в коммерческую эксплуатацию услуг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3T03:28:37Z</dcterms:created>
  <dc:creator>AbKOmarov</dc:creator>
  <dc:description/>
  <dc:language>en-US</dc:language>
  <cp:lastModifiedBy>NSharipov</cp:lastModifiedBy>
  <dcterms:modified xsi:type="dcterms:W3CDTF">2015-05-05T09:39:20Z</dcterms:modified>
  <cp:revision>321</cp:revision>
  <dc:subject/>
  <dc:title>Слайд 1</dc:title>
</cp:coreProperties>
</file>